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4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38.png" ContentType="image/png"/>
  <Override PartName="/ppt/media/image41.png" ContentType="image/png"/>
  <Override PartName="/ppt/media/image12.png" ContentType="image/png"/>
  <Override PartName="/ppt/media/image7.wmf" ContentType="image/x-wmf"/>
  <Override PartName="/ppt/media/image13.png" ContentType="image/png"/>
  <Override PartName="/ppt/media/image40.png" ContentType="image/png"/>
  <Override PartName="/ppt/media/image8.wmf" ContentType="image/x-wmf"/>
  <Override PartName="/ppt/media/image37.png" ContentType="image/png"/>
  <Override PartName="/ppt/media/image39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7621588"/>
  <p:notesSz cx="6858000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C4DA-2D00-4208-B310-3AE83F896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1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5900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7A90-999B-4D89-BB00-D9047B65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1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1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5900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5900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FAA5-E690-42BB-99EC-B1B7C21FA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01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01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01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5900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5900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5900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87A3-486E-4BB0-8AD9-A4E7F3237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017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FA36-16ED-4873-977B-D4147B11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017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61FB-87CA-422C-AAF5-E631AFFE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176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0176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F295-9D83-4309-BF4F-39C65127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F2C3-C423-4DA1-A2D8-E1C914E9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77880"/>
            <a:ext cx="77724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6E30-1D15-41E2-8A3B-30BCFE10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01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0176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5900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84B1-5E9D-43DD-AD70-573CC9CF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176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1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5900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A2E3-B4EA-4010-8C95-5FCBBD85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1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1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5900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0E5C-130E-4E7C-953E-00E6188C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17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941880"/>
            <a:ext cx="19051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94188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941880"/>
            <a:ext cx="19051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13DE-2935-44A6-888A-8B36D9CD4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7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1295280"/>
            <a:ext cx="72388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INTRODUCCION A LAS REDES 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Y 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COMUNICACIÓN DE DATO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76720" y="4572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NIDAD 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818640" y="3290760"/>
            <a:ext cx="7683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D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TIVOS Y ELEMENTOS DE UNA 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IFICACIÓN DE LAS RE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STEMAS ABIERTOS Y ORGANISMOS DE ESTAND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OCOLO Y SUS FUN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Z RS-2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OCOLO HD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DE FLU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CCIÓN Y CONTROL DE ERR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520" y="846000"/>
            <a:ext cx="8076960" cy="59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istemas Abier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Son aquellos cumplen con los estándares internacionales, para que softwares y hardware de distintos fabricantes puedan interoperar sin problem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Los estándares pueden ser: de facto (por experiencia) o de jure (previo estudio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rganización Internacional de Estándares (IS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utora del modelo OSI.  Documentos Serie ISO 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stituto Nacional Estadounidense de estándare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(ANS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nión Internacional de Telecomunicaciones (ITU-T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(Antes CCI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ries X para redes de datos públicas (ej. X.2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ries  V para acceso a la red telefónica conven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uerza de Trabajo de Ingeniería para Internet (IET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ocumentos RFC (Request for Comment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stituto de Ingenieros Eléctricos y Electrónicos (IEE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des LAN. Series  IEEE 8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oros de trabaj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abricantes de equipos. (Foro de ATM, Foro Frame Relay, et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8720" y="338040"/>
            <a:ext cx="74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3 Sistemas Abiertos y Organismos de Estanda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846000"/>
            <a:ext cx="8382240" cy="6096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789A-4767-4450-ACF6-7F0532B5818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932040"/>
            <a:ext cx="822960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rotoco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junto de reglas que gobiernan el intercambio de datos entre dos o más entida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unciones efectuadas por los protocol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capsulad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trol de la conexió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(si ha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rec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 debe identificar a las estaciones con nombres, direcciones o rutas para poder entregar los datos.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trol de fluj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na estación más rápida podría abrumar con datos a una estación len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tección y corrección de errore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 deber garantizar la entrega correcta de los da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cuen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datos deben llegar ordenados al desti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8000" y="338040"/>
            <a:ext cx="57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4 Protocolo, funciones  y tipo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846000"/>
            <a:ext cx="8382240" cy="6096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666880" y="2209680"/>
          <a:ext cx="2590920" cy="7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209680"/>
                    <a:ext cx="2590920" cy="7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190C-75FB-4CE9-A250-843AF10A822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79680" y="990720"/>
            <a:ext cx="34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gmentación y reensamb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846000"/>
            <a:ext cx="8382240" cy="6096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581280"/>
            <a:ext cx="7864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ipos de Servicio (Diálog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 conexió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Tres fases: Establecimiento, transferencia y libe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Confiable, para diálogos largos, direccionamiento al ini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Ejemplo: La comunicación telefón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n conex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Solo una fase: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No muy confiable, para diálogos cortos, direccionamiento en cada paquete. Ejemplo: Correo pos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600200" y="1523880"/>
          <a:ext cx="6202440" cy="21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3880"/>
                    <a:ext cx="6202440" cy="21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378000" y="338040"/>
            <a:ext cx="57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4 Protocolo, funciones  y tipo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AD7D-91FD-467C-8D9B-028CE9291251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5400" y="338040"/>
            <a:ext cx="40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5 Modelo de referencia O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846000"/>
            <a:ext cx="8382240" cy="6096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57200" y="1219320"/>
            <a:ext cx="8305920" cy="5205240"/>
            <a:chOff x="457200" y="1219320"/>
            <a:chExt cx="8305920" cy="5205240"/>
          </a:xfrm>
        </p:grpSpPr>
        <p:graphicFrame>
          <p:nvGraphicFramePr>
            <p:cNvPr id="127" name=""/>
            <p:cNvGraphicFramePr/>
            <p:nvPr/>
          </p:nvGraphicFramePr>
          <p:xfrm>
            <a:off x="457200" y="1523880"/>
            <a:ext cx="8305920" cy="4900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1523880"/>
                      <a:ext cx="8305920" cy="490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9" name=""/>
            <p:cNvSpPr/>
            <p:nvPr/>
          </p:nvSpPr>
          <p:spPr>
            <a:xfrm>
              <a:off x="2819520" y="5867280"/>
              <a:ext cx="60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ís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62000" y="198108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plic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66160" y="198108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plic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39040" y="2514600"/>
              <a:ext cx="717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rese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t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43200" y="2514600"/>
              <a:ext cx="717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rese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t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15000" y="327672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es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19520" y="327672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es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61640" y="3962520"/>
              <a:ext cx="95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anspor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5800" y="3962520"/>
              <a:ext cx="95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anspor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92400" y="4572000"/>
              <a:ext cx="46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20600" y="4572000"/>
              <a:ext cx="46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5720" y="5105520"/>
              <a:ext cx="66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l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a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20240" y="5105520"/>
              <a:ext cx="66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l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a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15000" y="5867280"/>
              <a:ext cx="60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ís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81280" y="601992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05320" y="533412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81280" y="472428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81280" y="4114800"/>
              <a:ext cx="21337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81280" y="3505320"/>
              <a:ext cx="21337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81280" y="2819520"/>
              <a:ext cx="21337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81280" y="2133720"/>
              <a:ext cx="21337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743560" y="1219320"/>
              <a:ext cx="95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Usuario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62720" y="1219320"/>
              <a:ext cx="95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Usuario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FB0E-F897-4DCE-A664-493B47EBFBB7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79080" y="338040"/>
            <a:ext cx="40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5 Modelo de referencia O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966960"/>
            <a:ext cx="80769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ado en una arquitectura de cap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cada capa se definen las funciones a realizar con sus protocol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a capa ofrece u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rvici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su capa inmediata superi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a capa requiere de los servicios de la capa inmediata inferi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defin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r medio de las cuales se proveerán los servicios entre las capas, así como los comandos que se usarán para solicitarl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846000"/>
            <a:ext cx="8382240" cy="6096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5960" y="3276720"/>
            <a:ext cx="818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ervicio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  Facilidades ofrecidas en cada capa a sus usuarios. (v.g. tx y  rx)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3886200"/>
            <a:ext cx="7924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terfaces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n los mecanismos a través de los cuales se acceden a los servic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ntos de acceso al servicio (SAP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438280" y="4572000"/>
          <a:ext cx="4267440" cy="22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572000"/>
                    <a:ext cx="4267440" cy="22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53EF-056F-416B-AC2C-685B6C1B261B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02400" y="338040"/>
            <a:ext cx="44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odelo de referencia OSI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3160" y="8377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Físic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nsmisión de un flujo de bits por el medio físic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racterísticas  mecánicas, eléctricas, funcionales  y  procedimientos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ts val="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Enlace de dat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vierte el canal físico en un canal lógico confiab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ts val="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Red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porciona a las capas superiores  independencia de la tecnología de transmisión empleada. Establece la ruta entre la estación origen y el desti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ts val="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ranspor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porciona control de flujo y de errores extremo a extre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ts val="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esió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rvicios adicionales a la capa de transporte. Control de diálogo y puntos de sincronización contra err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resentació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presentación de los datos (ASCII, EBCDIC), conversiones, encrip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Aplicació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cceso a OSI. Aplicaciones de archivos, impresión, correo, directorio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762120"/>
            <a:ext cx="8382240" cy="6180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C600-43F9-4DB5-8E51-8AF0B8C53A4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33160" y="254160"/>
            <a:ext cx="36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6 Interfaz  física RS-23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838080"/>
            <a:ext cx="792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z estándar entre un equipo terminal de datos (DTE) y un equipo de comunicación de datos (DC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2819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specificaciones mecánica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838080"/>
            <a:ext cx="8153280" cy="6096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743200" y="3200400"/>
            <a:ext cx="5257800" cy="3706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62120" y="472428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ector DB-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754280" y="1447920"/>
            <a:ext cx="6094440" cy="1224000"/>
            <a:chOff x="1754280" y="1447920"/>
            <a:chExt cx="6094440" cy="1224000"/>
          </a:xfrm>
        </p:grpSpPr>
        <p:graphicFrame>
          <p:nvGraphicFramePr>
            <p:cNvPr id="169" name=""/>
            <p:cNvGraphicFramePr/>
            <p:nvPr/>
          </p:nvGraphicFramePr>
          <p:xfrm>
            <a:off x="2057400" y="1447920"/>
            <a:ext cx="5791320" cy="1224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057400" y="1447920"/>
                      <a:ext cx="5791320" cy="122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1" name=""/>
            <p:cNvSpPr/>
            <p:nvPr/>
          </p:nvSpPr>
          <p:spPr>
            <a:xfrm>
              <a:off x="1754280" y="1828800"/>
              <a:ext cx="52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02400" y="152388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00080" y="1905120"/>
              <a:ext cx="105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d Públ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5667-4F32-4EE2-92E4-8922D5BD3652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33160" y="254160"/>
            <a:ext cx="34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6 Interfaz física RS-2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6240" y="3352680"/>
            <a:ext cx="7448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mbr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rigido a:      Fu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x1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nsmisón de dato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C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nsmisión del D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x1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cepción de dato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T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cepción del D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T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etición de enví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C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DTE desea transmit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T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ermiso para envíar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T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DCE está listo para recib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TR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TE list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C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DTE está encend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SR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CE list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T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DTE está encend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dicador de campan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T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dicar llamada entr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tección de portador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T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dica canal li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GND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ierra de señal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3276720"/>
            <a:ext cx="777240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762120"/>
            <a:ext cx="79246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pecificaciones eléctr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4160" indent="-276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RZ-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 binario (off) -3 a -15 vo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0 binario (on)  +3 a +15 vo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94160" indent="-276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áximo: 20 kbps y 15 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pecificaciones fun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4160" indent="-276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uatro grupos de pines o circuitos: datos, control, sincronización y tier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6400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36576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44956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762120"/>
            <a:ext cx="8153280" cy="6172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4997-8269-4A48-B02C-95AD47244102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34600" y="254160"/>
            <a:ext cx="27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6 Interfaz RS-2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762120"/>
            <a:ext cx="79246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uebas de loop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143000" y="1219320"/>
          <a:ext cx="215424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9320"/>
                    <a:ext cx="215424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583080" y="1139760"/>
          <a:ext cx="4722840" cy="142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3080" y="1139760"/>
                    <a:ext cx="4722840" cy="14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1831320" y="25401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41560" y="262404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mo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62120" y="3505320"/>
          <a:ext cx="4876560" cy="341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3505320"/>
                    <a:ext cx="487656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380880" y="3048120"/>
            <a:ext cx="79250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specificaciones de procedimientos (protoco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908680" y="3809880"/>
          <a:ext cx="2320920" cy="2819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08680" y="3809880"/>
                    <a:ext cx="23209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6477120" y="3429000"/>
            <a:ext cx="127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ódem Nu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762120"/>
            <a:ext cx="8153280" cy="6095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0F98-843C-4790-9817-376719489AC2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09480" y="846000"/>
            <a:ext cx="7925040" cy="60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opología del enla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a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ultipu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Funciones de la capa de enlace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anejo o supervisión del enl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reccionamiento (Enlaces multipu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trol de flu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trol de err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ontrol de fluj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écnica para controlar la tasa de datos del transmisor,  para que no abrume al recep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écnic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arada y espera (Stop and Wa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ntana deslizante (Sliding Window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2320" y="304920"/>
            <a:ext cx="37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7 Capa de enlace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762120"/>
            <a:ext cx="830592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CF86-6C6A-40E3-A0F1-9784072B964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1015920"/>
            <a:ext cx="777240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Def.-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Es un conjunto de entidades (hardware y software) interconectadas de maneras diversas y con necesidades de comunic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ransferencia rápida de inform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mpartición de recursos para la reducción de cos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sponibilidad inmediata de la inform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over la información a la persona indicada, en el tiempo indicado para que ésta tome la decisión adecuad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000" y="457200"/>
            <a:ext cx="728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1 Definición, objetivos y elementos de una red de computad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846000"/>
            <a:ext cx="8382240" cy="6096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480060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Hardware (elementos físicos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Estaciones de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Servid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Impresor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Unidades de dis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Etc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75480" y="4800600"/>
            <a:ext cx="212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oftwa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Correo Electrón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Bases de da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Videocon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cceso Rem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6440" y="4114800"/>
            <a:ext cx="14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CURS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44D9-93BF-4C94-ADD5-FD4F66B5DA6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79800" y="304920"/>
            <a:ext cx="69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7 Control de enlace de datos de alto nivel (HDL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09480" y="846000"/>
            <a:ext cx="7772400" cy="59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tocolo síncrono de la capa de enlace de da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sado ampliamente, y  base para muchos otros protocolos de esta cap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ara enlaces punto-punto y multipu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ipos de estacione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im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trola la operación del enlace y sus tramas se denominan “comandos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pera bajo el control de la estación primaria y sus tramas se denominan “respuesta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mbin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mbina las características de ambas, es decir, no hay jerarquí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onfiguraciones de lín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figuración no balancea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siste de una estación primaria y una o más secundari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figuración  balance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siste de dos estaciones combina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762120"/>
            <a:ext cx="830592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7B90-8EC2-4116-9DF7-89E24334831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800" y="845640"/>
            <a:ext cx="7772400" cy="31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Modos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odo de respuesta normal (N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n configuración no balanceada. La estación primaria inicia la transferencia, mientras la estación secundaria se limita a respond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odo de respuesta asíncrona (A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n configuración no balanceada. La estación secundaria puede iniciar la transfere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odo de balanceado asíncrono (AB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n  configuración balanceada. Cualquier estación puede iniciar la transferencia de da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78640" y="660384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tructura de tr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219320" y="4038480"/>
          <a:ext cx="6095880" cy="26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038480"/>
                    <a:ext cx="609588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380880" y="762120"/>
            <a:ext cx="830592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8000" y="338040"/>
            <a:ext cx="57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4 Protocolo, funciones  y tipo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C1C2-1574-4A50-A0F5-E08E949F03D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7772400" cy="60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serción de bits para transparen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recciones : 8 ó 16 bits en enlaces multipu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n comando con bit P debe ser respondido con una trama con bit 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gunas tramas import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mbr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scrip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upervis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conocimiento positivo, listo para recib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NR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conocimiento negativo, no lista para recib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J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conocimiento negativo. Regreso a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REJ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conocimiento negativo. Rechazo selec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 nume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ABM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stablece modo balanceado asíncrono extend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SC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erminar la conexión lóg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conocimiento a tramas no nume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SET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stablecer los contadores N(S) y N(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formación no nume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XID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tercambio de identif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RMR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chazo por una trama inacep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762120"/>
            <a:ext cx="830592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8000" y="338040"/>
            <a:ext cx="57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4 Protocolo, funciones  y tipo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3646-CD30-42A0-BEDF-234515CA089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3520" y="846000"/>
            <a:ext cx="7772400" cy="23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El transmisor envía una t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El receptor recibe la trama y la recono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El transmisor espera el reconocimiento para poder transmitir la siguiente tra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tilización del cana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ctor 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304920"/>
            <a:ext cx="55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7.1 Control de flujo: de parada y esp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295280" y="3352680"/>
                <a:ext cx="346896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iempo de propagació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  <m:r>
                          <m:rPr>
                            <m:lit/>
                            <m:nor/>
                          </m:rPr>
                          <m:t xml:space="preserve"> de transmisió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095880" y="4419720"/>
            <a:ext cx="1683000" cy="243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617840" y="4826160"/>
                <a:ext cx="27097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831960" y="6019920"/>
            <a:ext cx="44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¿Qué efecto tiene “a” en la utilización U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762120"/>
            <a:ext cx="830592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029200" y="3124080"/>
            <a:ext cx="3305160" cy="1297800"/>
            <a:chOff x="5029200" y="3124080"/>
            <a:chExt cx="3305160" cy="1297800"/>
          </a:xfrm>
        </p:grpSpPr>
        <p:graphicFrame>
          <p:nvGraphicFramePr>
            <p:cNvPr id="220" name=""/>
            <p:cNvGraphicFramePr/>
            <p:nvPr/>
          </p:nvGraphicFramePr>
          <p:xfrm>
            <a:off x="5029200" y="3276720"/>
            <a:ext cx="3305160" cy="1076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29200" y="3276720"/>
                      <a:ext cx="3305160" cy="107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2" name=""/>
            <p:cNvSpPr/>
            <p:nvPr/>
          </p:nvSpPr>
          <p:spPr>
            <a:xfrm>
              <a:off x="5788800" y="3124080"/>
              <a:ext cx="181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V=Vel de propag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93360" y="4114800"/>
              <a:ext cx="161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asa de transmis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990720" y="44956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tilización 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E2EC-94F2-46BD-A896-719CB9BBA38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09120" y="5105160"/>
            <a:ext cx="388620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lusión: “a” debe ser pequeñ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1240" y="304920"/>
            <a:ext cx="52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7.1 Control de flujo: parada y esp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2240" y="1143000"/>
            <a:ext cx="7308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9200" y="5638680"/>
            <a:ext cx="84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. d=1000 m,    L=576  byte,       B=33,600 bps       v= 0.6 c   (Módem en línea telefón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. d=500 m,      L= 1518  bytes,  B=10 Mbps           v=0.6 c    (L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3. d=100 km     L=53 bytes         B=155.52 Mbps    v= c         (ATM sobre F.O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762120"/>
            <a:ext cx="830592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fig6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7391520" cy="36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C560-1B23-41B6-AF85-905B7C43436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533520" y="846000"/>
            <a:ext cx="8076960" cy="16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misión de varias tramas a la ve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 máximo número de tramas transmitidas sin reconocimiento se denomina el tamaño de la ventana 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 transmisor y el receptor mantienen una ventana cada uno para cada sentido de la transmi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6120" y="304920"/>
            <a:ext cx="55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7.1 Control de flujo: ventana desliz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523880" y="2590920"/>
          <a:ext cx="6782040" cy="202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590920"/>
                    <a:ext cx="6782040" cy="20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1676520" y="4724280"/>
          <a:ext cx="6324480" cy="190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724280"/>
                    <a:ext cx="6324480" cy="19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380880" y="762120"/>
            <a:ext cx="830592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B150-4978-47FD-B33D-F9099133A90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533520" y="846000"/>
            <a:ext cx="8076960" cy="4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jemplo: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9800" y="304920"/>
            <a:ext cx="55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7.1 Control de flujo: ventana desliz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5105520"/>
            <a:ext cx="80773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tiliz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ende de los valores de a y 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 &gt; 1 + 2a       --------&gt; U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 &lt; 1 + 2a       --------&gt; U &lt; 1    ------&gt;   U = N / ( 1 + 2a )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508640" y="3689280"/>
                <a:ext cx="12528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4876920" y="5943600"/>
            <a:ext cx="1676160" cy="50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762120"/>
            <a:ext cx="830592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477120" cy="351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F3C7-E276-4400-AEAD-0884B4AB2D1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79800" y="304920"/>
            <a:ext cx="55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7.1 Control de flujo: ventana desliz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508640" y="3689280"/>
                <a:ext cx="12528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380880" y="762120"/>
            <a:ext cx="830592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600200" y="3809880"/>
          <a:ext cx="5638680" cy="271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809880"/>
                    <a:ext cx="5638680" cy="27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1600200" y="914400"/>
          <a:ext cx="5562720" cy="261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914400"/>
                    <a:ext cx="556272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4114440" y="3352680"/>
            <a:ext cx="114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&gt; 2a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160" y="6400800"/>
            <a:ext cx="114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&lt; 2a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0ED6-7EA7-4EC9-9200-4EA8E75C3C44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rincipio bá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regar redundancia a los datos origin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s características de la función f(Datos) determina la capacidad de detección de err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1600" y="30492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7.2 Detección de errores. C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030400" y="2201760"/>
          <a:ext cx="5145120" cy="15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0" y="2201760"/>
                    <a:ext cx="5145120" cy="15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533520" y="3886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lnSpc>
                <a:spcPct val="3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erificación de Redundancia Cíclica (CR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ocida también como Secuencia de Verificación de Trama (FC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ecuado para detectar ráfagas de err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ípicamente de 16 ó 32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do normalmente en hard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oritmo matemático basado en división binaria módulo 2 (X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762120"/>
            <a:ext cx="830592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39D9-3BDA-4ECF-B4CB-41F3D66AD5E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5760" y="304920"/>
            <a:ext cx="62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7.2 Detección de errores. Operación del C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14320" y="914400"/>
            <a:ext cx="375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= Mensaje de datos (k bi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=  Mensaje de verificación  (n bi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=  Trama a ser transmitida  (k+n bi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=  Polinomio generador  (n+1 bi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066680" y="1143000"/>
          <a:ext cx="2629080" cy="10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143000"/>
                    <a:ext cx="262908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380880" y="762120"/>
            <a:ext cx="830592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25760" y="2286000"/>
            <a:ext cx="6509880" cy="29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DIFICACIÓN: Se hace que la trama a transmitirse sea múltiplo de 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cedimiento en el transmiso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 Agregue  n ceros al mensaje M.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. Divida entre P.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M / P  = Q + R / P        F= 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. Sumar F al mensaje extendido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 = 2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M +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cedimiento en el recepto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 Dividir T entre P.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 / P = 2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M/ P + F / P  = Q + F / P + F / 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. Si no hay residuo, OK.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 / P = Q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os mensajes anteriores se pueden manejar en forma de polinom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 = 1 1 0 1 0 1      M(x)  =  1· x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+ 1· x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+ 0· x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+ 1· x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+ 0· x +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4648320" y="5791320"/>
            <a:ext cx="3733560" cy="11286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834920" y="6172200"/>
            <a:ext cx="278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linomios generadores típic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0B37-86EF-4051-A22B-8BF6DB156A9C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838080"/>
            <a:ext cx="6095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000" y="457200"/>
            <a:ext cx="728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1 Definición, objetivos y elementos de una red de computad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846000"/>
            <a:ext cx="8382240" cy="6096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914400"/>
            <a:ext cx="7391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Elemen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orkstations, Terminales, PC, Mainfra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rvidores  (de archivos, impresión, correo, proxie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rjetas de red (NIC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ftware: Sistemas operativos de red, drivers  y de aplic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spositivos de interconexión: concentradores o hubs, puentes, ruteadores, gatew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edios de transmisión, coaxial, fibra óptica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3657600"/>
          <a:ext cx="36576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657600"/>
                    <a:ext cx="36576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429000" y="5867280"/>
          <a:ext cx="103824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5867280"/>
                    <a:ext cx="10382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2743200" y="5334120"/>
            <a:ext cx="8380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1640" y="61722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59436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562720" y="3581280"/>
          <a:ext cx="3181320" cy="306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3581280"/>
                    <a:ext cx="3181320" cy="30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3FCC-3320-4234-8D81-3088C28FAAE3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685440" y="845640"/>
            <a:ext cx="79246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Ejempl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= 1 1 0 0 11  P =  1 1 0 0 1   F = 4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560" y="30492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7.2 Detección de errores. C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5562720" y="838080"/>
            <a:ext cx="2360520" cy="35053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57200" y="4233960"/>
            <a:ext cx="79246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pacidad de detección de err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dos los errores simples (1 bit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dos los errores dobles, mientras P(x), contenga al menos tres térmi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alquier número impar de errores mientras P(x) tenga a (x+1) como fac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alquier ráfaga de error menor a n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 mayor parte de la ráfaga de errores de más de n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762120"/>
            <a:ext cx="830592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EBBB-59F8-4ACD-9CC0-F21298DBBCE9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85440" y="76212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440" indent="-279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mpuertas Xor y registros de corr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440" indent="-279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gistro de corrimiento de n bits (longitud de 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440" indent="-279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áximo n compuertas X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440" indent="-279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presencia o ausencia de una compuerta corresponde con la presencia o ausencia de un término en P(x)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3880" y="25416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7.2 Detección de errores. C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143000" y="4724280"/>
            <a:ext cx="1219320" cy="2793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612000" y="464832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x)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317360" y="47242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5410080"/>
            <a:ext cx="149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=1010001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317000" y="594360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745000" y="647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880" y="762120"/>
            <a:ext cx="830592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2514600" y="3733920"/>
            <a:ext cx="4648320" cy="30556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135160" y="6553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38280" y="6781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2209680" y="2514600"/>
          <a:ext cx="5334120" cy="12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514600"/>
                    <a:ext cx="5334120" cy="12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7543800" y="2590920"/>
            <a:ext cx="75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t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892960" y="3429000"/>
            <a:ext cx="11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o 1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29200" y="3352680"/>
            <a:ext cx="139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uerta X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6385-274F-4AE9-B5AE-A0FA446D01F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09480" y="83772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on los mecanismos para corregir los errores detectados por el recep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ipos de err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120" indent="-2311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ma perd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120" indent="-2311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ma dañada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écnicas de corrección de err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120" indent="-2311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rrección en el receptor (FEC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120" indent="-2311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etición automática de repetición (AR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120" indent="0">
              <a:lnSpc>
                <a:spcPct val="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AR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30492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7.3 Control de err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1400" y="4495680"/>
            <a:ext cx="426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asado 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ección de err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ransmis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onocimientos positivos (A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onocimientos neg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oriz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99520" y="4495680"/>
            <a:ext cx="3091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écnic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da y esp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reso a 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hazo sele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43000" y="4495680"/>
            <a:ext cx="3809880" cy="186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495680"/>
            <a:ext cx="2514600" cy="186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0880" y="762120"/>
            <a:ext cx="830592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527F-38D7-42CD-8A6F-A4769B177EAF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04920" y="30492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7.3 Control de errores: ARQ de parada y esp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4800" y="846000"/>
            <a:ext cx="4572360" cy="53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racterístic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equerimiento de buffer mínim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Inefic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per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x envía una tr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l Rx  verifica la trama recibida y env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un ACK ó NA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l Tx espera un ACK o N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 ACK ..... Siguiente tr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 NACK ... Retransm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rro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os reconocimientos pueden perder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rama perd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. Usar temporiza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sible duplicación de tram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. Numerar las tra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¿Cuantos números de secuencia se requieren?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34240" y="3581280"/>
            <a:ext cx="107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ma perd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transm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56840" y="5334120"/>
            <a:ext cx="101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 perdi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transm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99680" y="5672160"/>
            <a:ext cx="81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descar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plic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0880" y="762120"/>
            <a:ext cx="830592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6019920" y="990720"/>
          <a:ext cx="2428920" cy="54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990720"/>
                    <a:ext cx="2428920" cy="54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5186160" y="4724280"/>
            <a:ext cx="104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iz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09840" y="2971800"/>
            <a:ext cx="104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iz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48A4-F2F4-49AE-87EB-0DFF87AFD466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0520" y="304920"/>
            <a:ext cx="52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7.3 Control de errores: Regresar a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73680" y="838080"/>
            <a:ext cx="4913640" cy="60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racterístic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asado en ventana desliz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quiere un buffer del tamaño de la ventana 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fic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per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x envía trama mientras no se cierre su vent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Rx  verifica la trama recibida y env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n ACK o REJ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Tx espera un ACK o REJ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i ACK ..... Siguiente t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i REJ N ... Retransmite a partir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 la trama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rrores adiciona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ma perdida y ventana abier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ma perdida y ventana cer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érdida de reconocimientos RR 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¿Cuál debe ser el tamaño de la venta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ara un campo de secuencia de k bi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= 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-1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5262480" y="1100160"/>
          <a:ext cx="2959200" cy="541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2480" y="1100160"/>
                    <a:ext cx="2959200" cy="54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8001720" y="4648320"/>
            <a:ext cx="715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ra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scar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0880" y="762120"/>
            <a:ext cx="830592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94960" y="5410080"/>
            <a:ext cx="84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s r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FDD8-C072-4DB0-8A04-1FF3F2304825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533160" y="254160"/>
            <a:ext cx="33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7.3 Control de err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762120"/>
            <a:ext cx="7543800" cy="36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Rechazo Selecti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acterístic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ado en ventana desliz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erimiento de buffer del tamaño de la ventana W pero más difícil de   manej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ic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amente retransmite las tramas con error o para las cuales venció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orizad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¿Cuál debe ser el tamaño de la ventana para un campo de secuencia de k bi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=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2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762120"/>
            <a:ext cx="830592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2438280" y="4343400"/>
            <a:ext cx="3810240" cy="25653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6326280" y="65530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4648320"/>
            <a:ext cx="13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ti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52680" y="5410080"/>
            <a:ext cx="685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top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w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38480" y="4724280"/>
            <a:ext cx="8384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=2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o-back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257800" y="49528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=2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Rechzao S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91120" y="5410080"/>
            <a:ext cx="914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=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o-back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rechazo 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F8AF-BFE4-448F-9B4B-893AF096A082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80520" y="304920"/>
            <a:ext cx="54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7 Enlace de datos de alto nivel (HDL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85800" y="846000"/>
            <a:ext cx="7772400" cy="4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jemplos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33520" y="1281240"/>
            <a:ext cx="4876560" cy="32209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5562720" y="1295280"/>
            <a:ext cx="2949480" cy="31496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835560" y="4546440"/>
            <a:ext cx="133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table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 libera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 en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13160" y="4630680"/>
            <a:ext cx="112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terecamb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bidirecc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66000" y="4630680"/>
            <a:ext cx="100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d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 ocup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39760" y="472428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reso a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13400" y="4572000"/>
            <a:ext cx="119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riz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nc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2840" y="5562720"/>
            <a:ext cx="2233440" cy="12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rivados de HDLC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PB  en X.2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PD en ISD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PM en mod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0880" y="762120"/>
            <a:ext cx="830592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429000" y="6019920"/>
            <a:ext cx="350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LC en 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PF en Frame rel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DLC  en versión IB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1F03-4BEF-4A61-9B00-7246F8B96386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62120" y="846000"/>
            <a:ext cx="7924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erspectiva histór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redes de computadoras se empezaron a implementar en los 60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l inicio el procesamiento era centralizado en Mainframes. Time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usuarios se conectaban por medios de terminales tont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los 80s se popularizan las computadoras personales que tienen capacidad para realizar procesa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ctualmente, procesamiento distribuido en muchas máqui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657600"/>
            <a:ext cx="419112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Aplica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des corporati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des en centros de Edu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stemas de acceso remoto (VP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stemas de reservació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stemas de cajero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stemas de información distribu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terconexión mundial (Inter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29200" y="3581280"/>
            <a:ext cx="365760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endenci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des de mayor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yor cobertura y menor co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tegración de servicios: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texto, voz, audio, imagen, 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ransferencia seg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mercio Elect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3581280"/>
            <a:ext cx="4038840" cy="310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3581280"/>
            <a:ext cx="3505320" cy="25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846000"/>
            <a:ext cx="8382240" cy="6096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000" y="457200"/>
            <a:ext cx="728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1 Definición, objetivos y elementos de una red de computad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871D-61B1-45F2-8C80-E6AE554D1F5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pología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 la forma en que las estaciones están conectadas a la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.2 Clasificación de las redes por: su topolog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38862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str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3809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i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990720"/>
            <a:ext cx="8153640" cy="601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905120"/>
          <a:ext cx="2009880" cy="192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05120"/>
                    <a:ext cx="2009880" cy="19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2514600" y="2209680"/>
          <a:ext cx="383868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2209680"/>
                    <a:ext cx="383868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6553080" y="1981080"/>
          <a:ext cx="1791000" cy="183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53080" y="1981080"/>
                    <a:ext cx="1791000" cy="18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1454040" y="1778040"/>
          <a:ext cx="6235920" cy="40640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54040" y="1778040"/>
                    <a:ext cx="62359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371600" y="4419720"/>
          <a:ext cx="6229440" cy="243828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71600" y="4419720"/>
                    <a:ext cx="622944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1869-725A-4E95-9A56-8154A6935DD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2040" y="338040"/>
            <a:ext cx="60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.2 Clasificación de las redes por: su cob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6840" y="845640"/>
            <a:ext cx="8001000" cy="54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Redes de área local (LA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des de propiedad privada, localizadas dentro de un edificio o grupo de él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locidades de transferencia altas. 4, 10, 16,  100, 1000 Mbp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dios de transmisión: Par trenzado, coaxial, fibra óptica, radio, infrarro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rvicios típicos de archivos, impresión, correo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jemplos: Ethernet, Token ring, Token bu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Redes de área amplia (WA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des públicas o privadas que abarcan uno o varios paí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locidades de transferencia  bajas.  9600 bps, 64 Kbps, 2 Mbp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dios de transmisión: Fibra óptica, Par trenz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rvicios típicos:  acceso remoto e interconexión de L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jemplos: ISDN, X.25, Frame Rel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846000"/>
            <a:ext cx="8382240" cy="6096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B1F4-BAC6-478A-8ED0-14A1E405B65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3160" y="1066680"/>
            <a:ext cx="8001000" cy="22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Redes de área metropolitana (MA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des privadas que abarcan un grupo de oficinas corporativas generalmente distribuidas en una ciu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locidades de transferencia de 100 Mbps en adela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rvicios de interconexión de LANs (Backbone), tranferencia de voz, vide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ejemplos típicos de redes MAN son: FDDI, DQDB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4960" y="37339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846000"/>
            <a:ext cx="8382240" cy="6096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2040" y="338040"/>
            <a:ext cx="60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.2 Clasificación de las redes por: su cob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219320" y="3581280"/>
          <a:ext cx="3181320" cy="30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581280"/>
                    <a:ext cx="3181320" cy="30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4" name=""/>
          <p:cNvGrpSpPr/>
          <p:nvPr/>
        </p:nvGrpSpPr>
        <p:grpSpPr>
          <a:xfrm>
            <a:off x="4495680" y="3429000"/>
            <a:ext cx="4007160" cy="3225960"/>
            <a:chOff x="4495680" y="3429000"/>
            <a:chExt cx="4007160" cy="3225960"/>
          </a:xfrm>
        </p:grpSpPr>
        <p:graphicFrame>
          <p:nvGraphicFramePr>
            <p:cNvPr id="95" name=""/>
            <p:cNvGraphicFramePr/>
            <p:nvPr/>
          </p:nvGraphicFramePr>
          <p:xfrm>
            <a:off x="4724280" y="3429000"/>
            <a:ext cx="3733920" cy="3225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429000"/>
                      <a:ext cx="3733920" cy="322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" name=""/>
            <p:cNvSpPr/>
            <p:nvPr/>
          </p:nvSpPr>
          <p:spPr>
            <a:xfrm>
              <a:off x="4495680" y="35053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24960" y="4267080"/>
              <a:ext cx="134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stación de trabaj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22640" y="5715000"/>
              <a:ext cx="88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rvid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1588-A57A-4113-B777-EA2383FB7F9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990720"/>
            <a:ext cx="777240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Difusión (Broadcast).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datos transmitidos por una estación son recibidas por todas las demá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medio de comunicación es compartido. Por ejemplo el aire, el c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 requiere de un mecanismo que regule el acceso al medio (MAC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sada en </a:t>
            </a: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LAN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 y M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onmu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red está constituida por nodos de conmutación interconect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xiste más de una trayectoria o ruta entre cada  estación origen y desti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 requiere un mecanismo de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ruta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sada en redes WAN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y actualmente en L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57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.2 Clasificación de las redes por:  la trans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4952880"/>
            <a:ext cx="2057400" cy="1905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743200" y="64771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fu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21880" y="6477120"/>
            <a:ext cx="13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mu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791320" y="4648320"/>
            <a:ext cx="2301840" cy="2225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2073-C39A-4540-BC44-E14C90C5BDA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Esta clasficación está ligada con el sistema operativo de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eer to peer”.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da estación tiene servicios que ofrec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ca seguridad y confiabilidad de los da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til en redes pequeñas y difícil de administrar en redes gran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isma configuración en todas las estacion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jemplos de NOS: Lantastic, Windows para grupos, Windows 95/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Basadas en serv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servicios (archivos, correo,  impresión) se encuentran en estaciones con alta capacidad de procesamiento, llamadas “servidores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lta seguridad y confiabilidad del uso de los recursos a través de logins y contraseñ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decuado para redes grandes por lo que cuentan con software especial para la Administración de la 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oftware reducido en las máquinas cliente y software complejo en las máquinas servid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jemplos de NOS: Windows NT, Novell Ne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457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.2 Clasificación de las redes por: la ubicación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1268-4E6B-4D35-8CBC-21BF56AFF48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1T23:08:10Z</dcterms:created>
  <dc:creator>J. Agustín Hernández Benítez</dc:creator>
  <dc:description/>
  <dc:language>en-US</dc:language>
  <cp:lastModifiedBy>José Agustín Hernández B.</cp:lastModifiedBy>
  <cp:lastPrinted>1998-08-21T14:19:15Z</cp:lastPrinted>
  <dcterms:modified xsi:type="dcterms:W3CDTF">2000-07-10T23:43:33Z</dcterms:modified>
  <cp:revision>44</cp:revision>
  <dc:subject/>
  <dc:title>Sin título de diapositiva</dc:title>
</cp:coreProperties>
</file>